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52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png" ContentType="image/png"/>
  <Override PartName="/ppt/media/image15.jpeg" ContentType="image/jpeg"/>
  <Override PartName="/ppt/media/image3.png" ContentType="image/png"/>
  <Override PartName="/ppt/media/image56.jpeg" ContentType="image/jpeg"/>
  <Override PartName="/ppt/media/image24.jpeg" ContentType="image/jpeg"/>
  <Override PartName="/ppt/media/image19.jpeg" ContentType="image/jpeg"/>
  <Override PartName="/ppt/media/image42.png" ContentType="image/png"/>
  <Override PartName="/ppt/media/image26.jpeg" ContentType="image/jpeg"/>
  <Override PartName="/ppt/media/image23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1.jpeg" ContentType="image/jpeg"/>
  <Override PartName="/ppt/media/image32.jpeg" ContentType="image/jpeg"/>
  <Override PartName="/ppt/media/image16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B4AB-68DC-4070-BCB6-D2E4FBF4B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EFEF-67D3-4335-B43A-872752DB7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6E2C-025D-4B2E-B1D6-7E57FAB9C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6408-F679-4B99-83F3-F63F4C3FE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45CD-ADED-4FC9-9433-50980EB41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9909-5FF8-43B4-B195-4EEA67D83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3BAE-FD45-4E8C-9382-F46AA02FC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82E8-DFA5-4428-B8D6-611094230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012C-C3A4-4AD0-9955-AF41E9887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FCF0-403A-4010-AFAE-0D77B5DD1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D439-1149-4508-907A-325B092E2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4942-8DEC-45C9-A489-6C377AB0F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FE9F-5E9F-4CC3-8B08-8A0EF743C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316-26CE-42CB-9602-D8EF4374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CE7-0936-4824-8E78-C38549A4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9DC06-A968-4000-923B-AAE3F3C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278D7-33E3-48A9-9757-5947E31E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0EEBE-FD96-4696-98D1-59C46663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6283B-F6D2-4088-A344-D58EC70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41DDF-E3FA-4E9F-9CDA-D89787F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76A34-3DFE-46FA-8086-42BAE55A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D2D92-080B-4196-BD60-BB9C9408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BB295-325B-4795-8579-1B8F4612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1EF6F-B606-461D-B429-81DA31CA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372-2656-4EFE-B3A3-F93D08F0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8AD-26DF-4A78-898A-21B148AA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7F07-81D8-4015-8E12-07C5AFAA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829F-D080-43E4-B79B-C1DA4228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2012-AF77-4A6F-97A8-CE88011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24EE-5B2B-4172-AE03-18D91865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F182-D0D0-4FEA-9E99-1E1D100D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D929-5278-4907-A97E-4EF8D6ED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1F97-A1DB-42E5-B03C-08145BDB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ACE-43C1-4075-9EA7-031E4F0E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901A-D0E9-437F-8E7B-BB7D7397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11BF-A184-46B4-9A1D-4180818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EDE8-4CAF-48CC-933F-412E64A3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4E99-1423-444E-B895-9F27BA59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B46C-795B-46F8-B387-EF388497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F58C-9B15-4FB5-8ADD-E73CBB13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20DA-E293-450A-990C-255A727F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A63C-C497-47F0-B710-C3C5CB4A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0525-0BC4-4C10-9A4A-D915174F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B05D-73BE-45B1-A857-EE5BDD8D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5E4-3D4C-457D-A064-E58B4F2E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2F47-066C-423B-A643-51EC46F2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DD77-1841-4421-AEB7-B2A62DD3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E121-9122-402F-A87F-6D9F71CA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9FD5-1391-4A13-82FA-F8A78C0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9F77-5237-41F9-8F30-BB84C417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E7A3-7906-4B02-8BF0-AE6CF271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691E2-D350-4766-B963-1330FB1E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0708A-8F82-4C95-9DC5-DA5D9A51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06DA-8602-47EB-9EA2-5DA9A407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65DE-F8E1-4146-AC3F-1A93DC0E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DD5-B672-461C-B036-6A683B9A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39C8-EE1F-4714-9400-B11E0FAF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FDD3-0968-427B-93CE-36666424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0268-704A-4ED7-B660-8278B4FB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FF5B-F0F2-40C2-9E66-83D5D26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557B-C52D-4EAE-859C-64E035E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F41CC-80D3-4EC1-85DC-E9608A7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02F5-89C6-4505-9DB2-819126B8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2539-C6E7-4349-97B0-1F68103B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C8FD-295B-4D00-A368-D7D8B5D6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5191-823D-4657-908A-BF943ACD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337-D38F-44F6-963D-03405608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92D4F-F9E3-43A3-9CFA-2C43261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6C19-1626-4775-AF17-7C86923E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0E207-F159-497C-A49D-FFB82C2F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1176B-8F8B-4CD1-8703-E0F495EE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CF21-9216-4D85-B4E6-BC28A625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7208A-A1AD-4C78-BC2F-E2BACA3D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AF05D-9041-4A57-87D2-811356BC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17C94-106E-4DD1-9E12-C3C750B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30807-854D-486E-84B7-2533327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E8F36-A23B-4DE0-B2BC-257CB475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437-5106-474D-A8CF-5812B383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20FE1-7C42-45BB-9392-A243C474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BB00-A50F-4A6A-94B0-AF81CE7F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D22A8-A557-4D6B-A07D-7C09C871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FB01-651A-45E1-8D01-9266C8F8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30DA-3A02-474B-ABED-C7C44F6F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81322-607F-47F0-978A-446082CA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427F9-84C8-4EBA-9CF8-1DDA083A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D7AE-CC23-4521-B744-4A9A8C60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59E24-8CF6-4A90-B273-4C533D2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D7A8-DF75-4852-99D4-E75A7CC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F9C-671B-43A4-AD6A-F4BD75C4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B1843-C007-4D4D-9F84-EB65C09F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C6D32-1C57-45B2-A2CC-A69ADC4E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C6DE-5E0C-42FD-8F7E-E2C176AF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D23D3-ADF3-4F84-BD3A-FE09F5DC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D2F4D-A31E-400D-9914-364BC8DA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6D069-ED39-4C5D-80F9-ACB66829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7BFD-9A21-4E24-80A8-6255F7DC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C3476-E209-4754-A1E3-E7420843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AD3C4-4572-4D82-99A5-16816904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144C6-9C47-40B5-B8B8-F380543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798-8CEB-4D88-953F-B31973E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54154-D98A-4986-A74B-C8CB6628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2EC73-4C64-4EBC-BDC4-D6F10EEC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27936-98B6-43B2-926B-E43C0119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B292D-F361-4092-A717-701BA296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F1DE7-CBF3-4646-B21C-1D20660D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61A20-C843-4AD5-A573-7B0B7994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2649-261E-43BA-B8CB-34087D2A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28524-F6F7-440B-9524-DC394E16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0116C-E693-4886-9472-831D64B4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5E0A6-DDE8-4471-894C-968E9534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CEA-36C8-45E2-B1FD-4451DB0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2780-22B5-4C09-A9D5-B189EFF8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57AD0-6EF6-451B-B02E-920F4AC8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9099C-BE1B-4462-97BF-2AD55AC6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4C39-4BBC-4F0D-844E-F3EE459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F03FC-78C7-42C2-ABD5-62F0FC68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44ADF-7FF4-4D84-8EB3-939FB254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A3119-2B14-4CE2-98D9-34E3F52D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73946-A38B-404E-B7E2-C94F8CDE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AB174-B970-4C85-A562-21FB25B8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74636-789D-4645-B672-9B599DD2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6D1C-5928-4765-B563-C137E5E17FE8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E38A-70BA-40F3-8CE5-A2F086047CF5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43B5-E9D4-491F-AF86-D8A5E2BF9C60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CE54-CB92-451D-90B2-6E1D2A336D68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346B-2937-40DB-9930-C55D8E7C84C1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A2F7-D0CD-4559-8739-8DEB8475FD21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18C5-62F4-4106-A135-44B9728171C4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1A5D-949B-4C20-854F-8DCAFC09607E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9730-8F68-4ABA-AB5A-83EDFE9D1334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pn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slideLayout" Target="../slideLayouts/slideLayout6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pn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:\Users\john\Pictures\New Folder\dorothea-lange-great-depression2[1].jpg"/>
          <p:cNvPicPr/>
          <p:nvPr/>
        </p:nvPicPr>
        <p:blipFill>
          <a:blip r:embed="rId1"/>
          <a:stretch/>
        </p:blipFill>
        <p:spPr>
          <a:xfrm>
            <a:off x="5410080" y="304920"/>
            <a:ext cx="3468960" cy="4572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john\Pictures\New Folder\depression-coffee[1].jpg"/>
          <p:cNvPicPr/>
          <p:nvPr/>
        </p:nvPicPr>
        <p:blipFill>
          <a:blip r:embed="rId2"/>
          <a:stretch/>
        </p:blipFill>
        <p:spPr>
          <a:xfrm>
            <a:off x="609480" y="2895480"/>
            <a:ext cx="4572000" cy="37083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5"/>
          <p:cNvSpPr/>
          <p:nvPr/>
        </p:nvSpPr>
        <p:spPr>
          <a:xfrm flipV="1" rot="10800000">
            <a:off x="914400" y="633960"/>
            <a:ext cx="372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merica is slowly recovering from economic hard tim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7"/>
          <p:cNvSpPr/>
          <p:nvPr/>
        </p:nvSpPr>
        <p:spPr>
          <a:xfrm flipH="1" flipV="1" rot="10800000">
            <a:off x="5409000" y="49525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and many of its people, distracted by their everyday interests, give little thought to events overs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C:\Users\john\Pictures\New Folder\citizen-kane[1].jpg"/>
          <p:cNvPicPr/>
          <p:nvPr/>
        </p:nvPicPr>
        <p:blipFill>
          <a:blip r:embed="rId3"/>
          <a:stretch/>
        </p:blipFill>
        <p:spPr>
          <a:xfrm>
            <a:off x="457200" y="380880"/>
            <a:ext cx="2697120" cy="270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C:\Users\john\Pictures\New Folder\rita.jpg"/>
          <p:cNvPicPr/>
          <p:nvPr/>
        </p:nvPicPr>
        <p:blipFill>
          <a:blip r:embed="rId4"/>
          <a:srcRect l="0" t="13418" r="0" b="0"/>
          <a:stretch/>
        </p:blipFill>
        <p:spPr>
          <a:xfrm>
            <a:off x="5562720" y="457200"/>
            <a:ext cx="3276360" cy="4419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C:\Users\john\Pictures\New Folder\19479527[1].jpg"/>
          <p:cNvPicPr/>
          <p:nvPr/>
        </p:nvPicPr>
        <p:blipFill>
          <a:blip r:embed="rId5"/>
          <a:stretch/>
        </p:blipFill>
        <p:spPr>
          <a:xfrm>
            <a:off x="2133720" y="2286000"/>
            <a:ext cx="3247920" cy="3857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C:\Users\john\Pictures\New Folder\bogart_humphrey-6-maltese_falcon_14295.jpg"/>
          <p:cNvPicPr/>
          <p:nvPr/>
        </p:nvPicPr>
        <p:blipFill>
          <a:blip r:embed="rId6"/>
          <a:stretch/>
        </p:blipFill>
        <p:spPr>
          <a:xfrm>
            <a:off x="304920" y="3749760"/>
            <a:ext cx="23875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1"/>
          <p:cNvSpPr/>
          <p:nvPr/>
        </p:nvSpPr>
        <p:spPr>
          <a:xfrm>
            <a:off x="228600" y="50292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Weapons have been secretly developed, some with the aid of the Russ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C:\Users\john\Pictures\alg_korean_missle.jpg"/>
          <p:cNvPicPr/>
          <p:nvPr/>
        </p:nvPicPr>
        <p:blipFill>
          <a:blip r:embed="rId2"/>
          <a:stretch/>
        </p:blipFill>
        <p:spPr>
          <a:xfrm>
            <a:off x="304920" y="380880"/>
            <a:ext cx="4286160" cy="3191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C:\Users\john\Pictures\shahab-3~s600x600.jpg"/>
          <p:cNvPicPr/>
          <p:nvPr/>
        </p:nvPicPr>
        <p:blipFill>
          <a:blip r:embed="rId3"/>
          <a:stretch/>
        </p:blipFill>
        <p:spPr>
          <a:xfrm>
            <a:off x="5029200" y="1905120"/>
            <a:ext cx="3914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3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 flipH="1">
            <a:off x="304920" y="54100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Impact"/>
              </a:rPr>
              <a:t>Leaders of democracies have tried  responding to the international situation  with sanctions and negoti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C:\Users\john\Pictures\New Folder\angela merkel.jpg"/>
          <p:cNvPicPr/>
          <p:nvPr/>
        </p:nvPicPr>
        <p:blipFill>
          <a:blip r:embed="rId1"/>
          <a:stretch/>
        </p:blipFill>
        <p:spPr>
          <a:xfrm>
            <a:off x="2057400" y="1828800"/>
            <a:ext cx="1469880" cy="2205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C:\Users\john\Pictures\barack-obama-photo.jpg"/>
          <p:cNvPicPr/>
          <p:nvPr/>
        </p:nvPicPr>
        <p:blipFill>
          <a:blip r:embed="rId2"/>
          <a:stretch/>
        </p:blipFill>
        <p:spPr>
          <a:xfrm>
            <a:off x="3733920" y="3200400"/>
            <a:ext cx="1697040" cy="1854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C:\Users\john\Pictures\GordonBrown.jpg"/>
          <p:cNvPicPr/>
          <p:nvPr/>
        </p:nvPicPr>
        <p:blipFill>
          <a:blip r:embed="rId3"/>
          <a:stretch/>
        </p:blipFill>
        <p:spPr>
          <a:xfrm>
            <a:off x="0" y="3276720"/>
            <a:ext cx="1943280" cy="1942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C:\Users\john\Pictures\sarkozy-nicolas~s600x600.jpg"/>
          <p:cNvPicPr/>
          <p:nvPr/>
        </p:nvPicPr>
        <p:blipFill>
          <a:blip r:embed="rId4"/>
          <a:stretch/>
        </p:blipFill>
        <p:spPr>
          <a:xfrm>
            <a:off x="5562720" y="2209680"/>
            <a:ext cx="1466640" cy="2000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C:\Users\john\Pictures\hatoyama.jpg"/>
          <p:cNvPicPr/>
          <p:nvPr/>
        </p:nvPicPr>
        <p:blipFill>
          <a:blip r:embed="rId5"/>
          <a:stretch/>
        </p:blipFill>
        <p:spPr>
          <a:xfrm>
            <a:off x="7143840" y="3657600"/>
            <a:ext cx="2000160" cy="17542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C:\Users\john\Pictures\japan_flag.gif"/>
          <p:cNvPicPr/>
          <p:nvPr/>
        </p:nvPicPr>
        <p:blipFill>
          <a:blip r:embed="rId6"/>
          <a:stretch/>
        </p:blipFill>
        <p:spPr>
          <a:xfrm>
            <a:off x="7238880" y="2209680"/>
            <a:ext cx="1692360" cy="1179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C:\Users\john\Pictures\7WZCA774FNDCAG0R12WCAEPPEYLCAT650UACAXOLTOFCAD0D1DBCAD5QVBPCAXED9WGCA01IUWECA0VPZOZCAVU3IXICA2DU9Y3CAZT2VO9CAKLGSJDCAWJO37ACASHK3R2CAFGISJ3CA0Z4KQ7CAA1SHLM.jpg"/>
          <p:cNvPicPr/>
          <p:nvPr/>
        </p:nvPicPr>
        <p:blipFill>
          <a:blip r:embed="rId7"/>
          <a:stretch/>
        </p:blipFill>
        <p:spPr>
          <a:xfrm>
            <a:off x="2133720" y="304920"/>
            <a:ext cx="1428480" cy="1095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C:\Users\john\Pictures\usa-flag1.jpg"/>
          <p:cNvPicPr/>
          <p:nvPr/>
        </p:nvPicPr>
        <p:blipFill>
          <a:blip r:embed="rId8"/>
          <a:stretch/>
        </p:blipFill>
        <p:spPr>
          <a:xfrm>
            <a:off x="3733920" y="1752480"/>
            <a:ext cx="1562040" cy="1101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C:\Users\john\Pictures\french-flag.png"/>
          <p:cNvPicPr/>
          <p:nvPr/>
        </p:nvPicPr>
        <p:blipFill>
          <a:blip r:embed="rId9"/>
          <a:stretch/>
        </p:blipFill>
        <p:spPr>
          <a:xfrm>
            <a:off x="5638680" y="83808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1" descr="C:\Users\john\Pictures\uk_flag.gif"/>
          <p:cNvPicPr/>
          <p:nvPr/>
        </p:nvPicPr>
        <p:blipFill>
          <a:blip r:embed="rId10"/>
          <a:stretch/>
        </p:blipFill>
        <p:spPr>
          <a:xfrm>
            <a:off x="0" y="1981080"/>
            <a:ext cx="18144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00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380880" y="838080"/>
            <a:ext cx="7696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 flipH="1" flipV="1" rot="10800000">
            <a:off x="1295280" y="70056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Which year is i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990720" y="26668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db1"/>
                </a:solidFill>
                <a:latin typeface="Rockwell Extra Bold"/>
              </a:rPr>
              <a:t>19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3581280" y="35053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Rockwell Extra Bold"/>
              </a:rPr>
              <a:t>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6629400" y="4114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Rockwell Extra Bold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533520" y="55627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atisse ITC"/>
              </a:rPr>
              <a:t>...or do we really want to know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304920" y="4572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eign leaders, hostile to the U.S., have  formed al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C:\Users\john\Pictures\New Folder\225px-Hideki_Tojo.jpg"/>
          <p:cNvPicPr/>
          <p:nvPr/>
        </p:nvPicPr>
        <p:blipFill>
          <a:blip r:embed="rId1"/>
          <a:stretch/>
        </p:blipFill>
        <p:spPr>
          <a:xfrm>
            <a:off x="6400800" y="4038480"/>
            <a:ext cx="2133720" cy="2721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john\Pictures\New Folder\mussolini.jpg"/>
          <p:cNvPicPr/>
          <p:nvPr/>
        </p:nvPicPr>
        <p:blipFill>
          <a:blip r:embed="rId2"/>
          <a:stretch/>
        </p:blipFill>
        <p:spPr>
          <a:xfrm>
            <a:off x="304920" y="3505320"/>
            <a:ext cx="2209680" cy="31384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C:\Users\john\Pictures\New Folder\adolf_hitler.jpg"/>
          <p:cNvPicPr/>
          <p:nvPr/>
        </p:nvPicPr>
        <p:blipFill>
          <a:blip r:embed="rId3"/>
          <a:stretch/>
        </p:blipFill>
        <p:spPr>
          <a:xfrm>
            <a:off x="2971800" y="1676520"/>
            <a:ext cx="2489040" cy="30114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52280" y="51055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y finance and equip forces which have attacked the U.S. and its al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C:\Users\john\Pictures\New Folder\2467702550088390784S425x425Q85[1].jpg"/>
          <p:cNvPicPr/>
          <p:nvPr/>
        </p:nvPicPr>
        <p:blipFill>
          <a:blip r:embed="rId4"/>
          <a:stretch/>
        </p:blipFill>
        <p:spPr>
          <a:xfrm>
            <a:off x="228600" y="228600"/>
            <a:ext cx="3562200" cy="28414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C:\Users\john\Pictures\New Folder\SinkingShip1[1].jpg"/>
          <p:cNvPicPr/>
          <p:nvPr/>
        </p:nvPicPr>
        <p:blipFill>
          <a:blip r:embed="rId5"/>
          <a:stretch/>
        </p:blipFill>
        <p:spPr>
          <a:xfrm>
            <a:off x="5334120" y="304920"/>
            <a:ext cx="3543120" cy="2647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C:\Users\john\Pictures\New Folder\1940_battle_of_britain_03[1].jpg"/>
          <p:cNvPicPr/>
          <p:nvPr/>
        </p:nvPicPr>
        <p:blipFill>
          <a:blip r:embed="rId6"/>
          <a:stretch/>
        </p:blipFill>
        <p:spPr>
          <a:xfrm>
            <a:off x="2971800" y="2971800"/>
            <a:ext cx="30067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2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4"/>
          <p:cNvSpPr/>
          <p:nvPr/>
        </p:nvSpPr>
        <p:spPr>
          <a:xfrm>
            <a:off x="380880" y="53352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One of these leaders openly threatens  large numbers of a particular religiou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Users\john\Pictures\New Folder\aushwitz-concentration-camp.gif"/>
          <p:cNvPicPr/>
          <p:nvPr/>
        </p:nvPicPr>
        <p:blipFill>
          <a:blip r:embed="rId1"/>
          <a:stretch/>
        </p:blipFill>
        <p:spPr>
          <a:xfrm>
            <a:off x="1676520" y="3886200"/>
            <a:ext cx="3333600" cy="2476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Users\john\Pictures\New Folder\71290.jpg"/>
          <p:cNvPicPr/>
          <p:nvPr/>
        </p:nvPicPr>
        <p:blipFill>
          <a:blip r:embed="rId2"/>
          <a:stretch/>
        </p:blipFill>
        <p:spPr>
          <a:xfrm>
            <a:off x="5791320" y="762120"/>
            <a:ext cx="22874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533520" y="4800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pperplate Gothic Bold"/>
              </a:rPr>
              <a:t>Weapons have been secretly developed, some with the aid of the Russ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C:\Users\john\Pictures\New Folder\Bundesarchiv_Bild_101I-638-4221-06,_Produktion_von_Messerschmitt_Me_109.jpg"/>
          <p:cNvPicPr/>
          <p:nvPr/>
        </p:nvPicPr>
        <p:blipFill>
          <a:blip r:embed="rId2"/>
          <a:stretch/>
        </p:blipFill>
        <p:spPr>
          <a:xfrm>
            <a:off x="1523880" y="457200"/>
            <a:ext cx="5691240" cy="3894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john\Pictures\New Folder\7tp22.jpg"/>
          <p:cNvPicPr/>
          <p:nvPr/>
        </p:nvPicPr>
        <p:blipFill>
          <a:blip r:embed="rId3"/>
          <a:stretch/>
        </p:blipFill>
        <p:spPr>
          <a:xfrm>
            <a:off x="1143000" y="457200"/>
            <a:ext cx="65833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0" y="44956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 Black"/>
              </a:rPr>
              <a:t>Leaders of democracies have tried responding to the international situation with sanctions and negot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Users\john\Pictures\New Folder\uk-flag.jpg"/>
          <p:cNvPicPr/>
          <p:nvPr/>
        </p:nvPicPr>
        <p:blipFill>
          <a:blip r:embed="rId2"/>
          <a:stretch/>
        </p:blipFill>
        <p:spPr>
          <a:xfrm>
            <a:off x="304920" y="380880"/>
            <a:ext cx="2377800" cy="3962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C:\Users\john\Pictures\New Folder\frenchflag.jpg"/>
          <p:cNvPicPr/>
          <p:nvPr/>
        </p:nvPicPr>
        <p:blipFill>
          <a:blip r:embed="rId3"/>
          <a:stretch/>
        </p:blipFill>
        <p:spPr>
          <a:xfrm>
            <a:off x="2971800" y="380880"/>
            <a:ext cx="2620800" cy="3943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C:\Users\john\Pictures\New Folder\american_flag-183332-1.jpg"/>
          <p:cNvPicPr/>
          <p:nvPr/>
        </p:nvPicPr>
        <p:blipFill>
          <a:blip r:embed="rId4"/>
          <a:stretch/>
        </p:blipFill>
        <p:spPr>
          <a:xfrm>
            <a:off x="6019920" y="45720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C:\Users\john\Pictures\New Folder\250px-Arthur-Neville-Chamberlain.jpg"/>
          <p:cNvPicPr/>
          <p:nvPr/>
        </p:nvPicPr>
        <p:blipFill>
          <a:blip r:embed="rId5"/>
          <a:stretch/>
        </p:blipFill>
        <p:spPr>
          <a:xfrm>
            <a:off x="457200" y="1219320"/>
            <a:ext cx="2000160" cy="2584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C:\Users\john\Pictures\New Folder\daladier.jpg"/>
          <p:cNvPicPr/>
          <p:nvPr/>
        </p:nvPicPr>
        <p:blipFill>
          <a:blip r:embed="rId6"/>
          <a:stretch/>
        </p:blipFill>
        <p:spPr>
          <a:xfrm>
            <a:off x="3276720" y="1143000"/>
            <a:ext cx="1942920" cy="2739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C:\Users\john\Pictures\New Folder\fdr_lg.jpg"/>
          <p:cNvPicPr/>
          <p:nvPr/>
        </p:nvPicPr>
        <p:blipFill>
          <a:blip r:embed="rId7"/>
          <a:stretch/>
        </p:blipFill>
        <p:spPr>
          <a:xfrm>
            <a:off x="6248520" y="1143000"/>
            <a:ext cx="2662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380880" y="533520"/>
            <a:ext cx="3353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b39f"/>
                </a:solidFill>
                <a:latin typeface="Arial Black"/>
              </a:rPr>
              <a:t>The year ends badly for the U.S., a familiar old story from long a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C:\Users\john\Pictures\New Folder\6a00d83421515e53ef00e54f3250af8833-640wi.jpg"/>
          <p:cNvPicPr/>
          <p:nvPr/>
        </p:nvPicPr>
        <p:blipFill>
          <a:blip r:embed="rId1"/>
          <a:stretch/>
        </p:blipFill>
        <p:spPr>
          <a:xfrm>
            <a:off x="4191120" y="457200"/>
            <a:ext cx="4559040" cy="398952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457200" y="3962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b39f"/>
                </a:solidFill>
                <a:latin typeface="Arial Black"/>
              </a:rPr>
              <a:t>… </a:t>
            </a:r>
            <a:r>
              <a:rPr b="0" lang="en-US" sz="2800" spc="-1" strike="noStrike">
                <a:solidFill>
                  <a:srgbClr val="1ab39f"/>
                </a:solidFill>
                <a:latin typeface="Arial Black"/>
              </a:rPr>
              <a:t>or is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914400" y="51055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Impact"/>
              </a:rPr>
              <a:t>Let’s take another look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533520" y="6858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Book"/>
              </a:rPr>
              <a:t>America is slowly recovering from economic hard tim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C:\Users\john\Pictures\unemployment.jpg"/>
          <p:cNvPicPr/>
          <p:nvPr/>
        </p:nvPicPr>
        <p:blipFill>
          <a:blip r:embed="rId2"/>
          <a:stretch/>
        </p:blipFill>
        <p:spPr>
          <a:xfrm rot="21252000">
            <a:off x="4383000" y="1179360"/>
            <a:ext cx="4557960" cy="1016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john\Pictures\unemployment2.jpg"/>
          <p:cNvPicPr/>
          <p:nvPr/>
        </p:nvPicPr>
        <p:blipFill>
          <a:blip r:embed="rId3"/>
          <a:stretch/>
        </p:blipFill>
        <p:spPr>
          <a:xfrm rot="442800">
            <a:off x="1352520" y="3119040"/>
            <a:ext cx="4738680" cy="1189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C:\Users\john\Pictures\american-idol-theme-tonight.jpg"/>
          <p:cNvPicPr/>
          <p:nvPr/>
        </p:nvPicPr>
        <p:blipFill>
          <a:blip r:embed="rId4"/>
          <a:stretch/>
        </p:blipFill>
        <p:spPr>
          <a:xfrm>
            <a:off x="0" y="31240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C:\Users\john\Pictures\2009-baseball-opening-day-brett-mye.jpg"/>
          <p:cNvPicPr/>
          <p:nvPr/>
        </p:nvPicPr>
        <p:blipFill>
          <a:blip r:embed="rId5"/>
          <a:stretch/>
        </p:blipFill>
        <p:spPr>
          <a:xfrm>
            <a:off x="5105520" y="380880"/>
            <a:ext cx="3565440" cy="3024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C:\Users\john\Pictures\kanye_west.jpg"/>
          <p:cNvPicPr/>
          <p:nvPr/>
        </p:nvPicPr>
        <p:blipFill>
          <a:blip r:embed="rId6"/>
          <a:stretch/>
        </p:blipFill>
        <p:spPr>
          <a:xfrm>
            <a:off x="3581280" y="2286000"/>
            <a:ext cx="2651400" cy="26510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12"/>
          <p:cNvSpPr/>
          <p:nvPr/>
        </p:nvSpPr>
        <p:spPr>
          <a:xfrm>
            <a:off x="5181480" y="50292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and many of its people, distracted by their everyday interests, give little thought to events overs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380880" y="5181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Foreign leaders, hostile to the U.S., have formed  alli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C:\Users\john\Pictures\wchavez11.jpg"/>
          <p:cNvPicPr/>
          <p:nvPr/>
        </p:nvPicPr>
        <p:blipFill>
          <a:blip r:embed="rId2"/>
          <a:stretch/>
        </p:blipFill>
        <p:spPr>
          <a:xfrm>
            <a:off x="380880" y="2362320"/>
            <a:ext cx="1793880" cy="1974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C:\Users\john\Pictures\venezuela-flag.gif"/>
          <p:cNvPicPr/>
          <p:nvPr/>
        </p:nvPicPr>
        <p:blipFill>
          <a:blip r:embed="rId3"/>
          <a:stretch/>
        </p:blipFill>
        <p:spPr>
          <a:xfrm>
            <a:off x="380880" y="609480"/>
            <a:ext cx="1543320" cy="1028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C:\Users\john\Pictures\al-assad-cp-200-240.jpg"/>
          <p:cNvPicPr/>
          <p:nvPr/>
        </p:nvPicPr>
        <p:blipFill>
          <a:blip r:embed="rId4"/>
          <a:stretch/>
        </p:blipFill>
        <p:spPr>
          <a:xfrm>
            <a:off x="7162920" y="2362320"/>
            <a:ext cx="1600200" cy="19206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C:\Users\john\Pictures\syrian-flag.jpg"/>
          <p:cNvPicPr/>
          <p:nvPr/>
        </p:nvPicPr>
        <p:blipFill>
          <a:blip r:embed="rId5"/>
          <a:stretch/>
        </p:blipFill>
        <p:spPr>
          <a:xfrm>
            <a:off x="7086600" y="609480"/>
            <a:ext cx="1638360" cy="12286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C:\Users\john\Pictures\ahmadinejad.jpg"/>
          <p:cNvPicPr/>
          <p:nvPr/>
        </p:nvPicPr>
        <p:blipFill>
          <a:blip r:embed="rId6"/>
          <a:stretch/>
        </p:blipFill>
        <p:spPr>
          <a:xfrm>
            <a:off x="2666880" y="2362320"/>
            <a:ext cx="1805040" cy="195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C:\Users\john\Pictures\iran_flag.gif"/>
          <p:cNvPicPr/>
          <p:nvPr/>
        </p:nvPicPr>
        <p:blipFill>
          <a:blip r:embed="rId7"/>
          <a:stretch/>
        </p:blipFill>
        <p:spPr>
          <a:xfrm>
            <a:off x="2590920" y="533520"/>
            <a:ext cx="1885680" cy="1077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C:\Users\john\Pictures\kim jong il.jpg"/>
          <p:cNvPicPr/>
          <p:nvPr/>
        </p:nvPicPr>
        <p:blipFill>
          <a:blip r:embed="rId8"/>
          <a:stretch/>
        </p:blipFill>
        <p:spPr>
          <a:xfrm>
            <a:off x="5029200" y="2438280"/>
            <a:ext cx="1511280" cy="1903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C:\Users\john\Pictures\NorthKoreanFlag.jpg"/>
          <p:cNvPicPr/>
          <p:nvPr/>
        </p:nvPicPr>
        <p:blipFill>
          <a:blip r:embed="rId9"/>
          <a:stretch/>
        </p:blipFill>
        <p:spPr>
          <a:xfrm>
            <a:off x="4952880" y="457200"/>
            <a:ext cx="1656000" cy="11635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2"/>
          <p:cNvSpPr/>
          <p:nvPr/>
        </p:nvSpPr>
        <p:spPr>
          <a:xfrm>
            <a:off x="380880" y="5867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</a:rPr>
              <a:t>They finance and equip forces which have attacked the U.S. and its al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1" descr="C:\Users\john\Pictures\large_TalibanAfghanistan_Violence_Meye.jpg"/>
          <p:cNvPicPr/>
          <p:nvPr/>
        </p:nvPicPr>
        <p:blipFill>
          <a:blip r:embed="rId10"/>
          <a:stretch/>
        </p:blipFill>
        <p:spPr>
          <a:xfrm>
            <a:off x="228600" y="304920"/>
            <a:ext cx="2363760" cy="16491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2" descr="C:\Users\john\Pictures\al Qaeda Organisation in the Islamic Maghreb.jpg"/>
          <p:cNvPicPr/>
          <p:nvPr/>
        </p:nvPicPr>
        <p:blipFill>
          <a:blip r:embed="rId11"/>
          <a:stretch/>
        </p:blipFill>
        <p:spPr>
          <a:xfrm>
            <a:off x="579132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" descr="C:\Users\john\Pictures\MarineBarracksA.jpg"/>
          <p:cNvPicPr/>
          <p:nvPr/>
        </p:nvPicPr>
        <p:blipFill>
          <a:blip r:embed="rId12"/>
          <a:stretch/>
        </p:blipFill>
        <p:spPr>
          <a:xfrm>
            <a:off x="228600" y="2743200"/>
            <a:ext cx="2641680" cy="2905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4" descr="C:\Users\john\Pictures\10.jpg"/>
          <p:cNvPicPr/>
          <p:nvPr/>
        </p:nvPicPr>
        <p:blipFill>
          <a:blip r:embed="rId13"/>
          <a:stretch/>
        </p:blipFill>
        <p:spPr>
          <a:xfrm>
            <a:off x="6477120" y="3429000"/>
            <a:ext cx="2235240" cy="1676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5" descr="C:\Users\john\Pictures\beirut-airp-cp-10386373.jpg"/>
          <p:cNvPicPr/>
          <p:nvPr/>
        </p:nvPicPr>
        <p:blipFill>
          <a:blip r:embed="rId14"/>
          <a:stretch/>
        </p:blipFill>
        <p:spPr>
          <a:xfrm>
            <a:off x="3124080" y="1143000"/>
            <a:ext cx="24861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8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1"/>
          <p:cNvSpPr/>
          <p:nvPr/>
        </p:nvSpPr>
        <p:spPr>
          <a:xfrm>
            <a:off x="304920" y="380880"/>
            <a:ext cx="3352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f71"/>
                </a:solidFill>
                <a:latin typeface="Franklin Gothic Book"/>
              </a:rPr>
              <a:t>One of these leaders openly threatens large numbers of a particular religious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C:\Users\john\Pictures\President_Addresses_General_Assembly.jpg"/>
          <p:cNvPicPr/>
          <p:nvPr/>
        </p:nvPicPr>
        <p:blipFill>
          <a:blip r:embed="rId1"/>
          <a:stretch/>
        </p:blipFill>
        <p:spPr>
          <a:xfrm>
            <a:off x="3809880" y="609480"/>
            <a:ext cx="5143680" cy="3416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C:\Users\john\Pictures\LLLLLLLLLLLLLLLLLLLLLLLLLLLLLLLLLLLLLLLL.jpg"/>
          <p:cNvPicPr/>
          <p:nvPr/>
        </p:nvPicPr>
        <p:blipFill>
          <a:blip r:embed="rId2"/>
          <a:stretch/>
        </p:blipFill>
        <p:spPr>
          <a:xfrm>
            <a:off x="838080" y="4724280"/>
            <a:ext cx="564696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3:08:25Z</dcterms:created>
  <dc:creator>john</dc:creator>
  <dc:description/>
  <dc:language>en-US</dc:language>
  <cp:lastModifiedBy>john</cp:lastModifiedBy>
  <dcterms:modified xsi:type="dcterms:W3CDTF">2009-11-28T23:36:05Z</dcterms:modified>
  <cp:revision>55</cp:revision>
  <dc:subject/>
  <dc:title>Slide 1</dc:title>
</cp:coreProperties>
</file>